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75A2-C358-457F-9F60-E4F75997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AFA6-0FEB-4D7C-B902-8364D0F2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473A9-7BDF-4593-859E-1408C517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8F78C-B1A0-4C7A-9826-2265CE9F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3C31C-FDE7-44BB-A782-451C46D5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18AD8-42EE-43CA-A8E4-C94454BC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8EF96-B895-46E4-A723-B26B9151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A1DAF-0073-4740-B8B5-85A28061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EFE51-4D83-4653-A9A8-95DE448E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75ECF-F248-4969-84F3-B369681A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2E3F3-85EF-4E0C-A910-D88AD346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18B-4AA0-4F0C-93CF-C9397D67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1CB6-4316-45DB-B9B5-0AEA8FC1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3D4C-A4C1-4EBF-92F0-D13141EA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BC03-409A-4151-8108-9068FF52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FFB8-3537-4D34-8901-C91DDC18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FF1E-7CB6-4D6F-A9EB-6FDE9CD0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CB53-8BCB-4702-8BC7-1336E6CB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2423-EA17-47BD-92FE-00853B1B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3982-5053-42F5-9511-0A1348BD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FCBD-1684-4DD4-8DFE-0B86AC7A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9DFF-985B-455B-8F3A-2628F875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14BC-30F8-4202-9CB2-7FC7D84B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7B13-EFE8-4585-81C9-E8D19D78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BEFA-3461-482F-9269-284A0A20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0FFD-BE28-44A0-94B5-0EFE8C13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CF8CE-6E83-44E0-B478-1C2AE0C7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73B6E-6B13-4847-AC5A-E9D474BA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E7310-42AC-42C7-A957-798578DB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CDABEC-EE85-40A5-8FC9-636EE4A2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F7A91-E0D2-4026-A1B1-20E04382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7A1B-96BF-4DD2-8045-0A8830D0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1BBB4-F757-46A4-A32D-7C8AC166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F4315-E4E7-486F-9BAF-8776168B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284C75-4FF2-40AC-B2CD-191B5EFB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C1B060-CD65-4635-B31F-0A733D01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A37E3A-42FA-48BC-9571-0AE50443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ACB9A-8171-44CA-A113-F5D93A10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551EF8-A7FB-4882-99C4-91220308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161E7-E0C6-48CB-A9BC-74EEAA2C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2E69F-0803-410D-89DA-C9FC76CC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6B57E-916B-46A4-882F-7F431D46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148E-11DC-433B-B3A6-8AD64441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71E96-F97C-40E6-B08A-EEF48258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9B233-4D9F-4394-A7D3-8B1F775C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5DD3C-1DC0-41BC-A51D-A7BC9C40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D366F-3A17-4073-8BA7-8DE3C8A4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20EDA-3B35-432A-B0E1-4532AA5C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6C1BE-78FC-4319-A0E0-9C870159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21C53-DA7B-4C21-9EA8-9440C3EC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5D0BB-6CDC-4962-A1DE-DFFE53F2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64165-A7AB-4C62-9BA9-1BF5E8F8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1835C-2AA1-4AA1-A557-F0CCD48A0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43BD-5620-415F-87F6-BFD213E5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6FB9C-24DB-44C0-B9A5-A889F831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5166B-6B64-4671-A6DF-8F9C880E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0E21D-EFEA-4311-BBF6-F4DDAD71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E3317-6097-442B-BF81-3F7E29C3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09EA2-802D-475E-A505-0B6DBE8B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AC8A6-B084-4B45-9E64-114B0ED5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5635E-C3C1-43BF-8ED1-18444FD5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0D519-A1E2-49F8-B84A-AB9FCCCE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9E5E6-2356-4F04-B390-B87F1A0C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8C53B-2AD9-4AD5-A06A-DF12DD3A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8490-AA34-411E-9111-23D3B722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BAD85-28A8-4B2D-8214-87CA0647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C91CF-3AEB-473C-827D-239EE73E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2834F-9CFC-4C03-BA7D-3DC16872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45D82-E342-4706-AEDB-B2484461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6879E-EB05-4189-906D-52135138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4A239-9C52-4033-AA6B-937E12E1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8FC6A-70E2-45C7-A018-966DA106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1662D-9F99-4DC7-83EA-F4D973E2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DE57F-B118-43C5-B473-AFFA1387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0D32D-760C-47FE-BC45-4C3E0976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CC3E-AB3C-4A59-BE7C-701F69C0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CD263-22F2-439A-A7C4-688EAFA8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16862-FD64-47E3-8A52-8C48998D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7CDAB-590A-4226-9160-176B855D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6D45E-A680-4341-9184-0C5BA77C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3E50D-A42A-42C7-AED2-20854656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69FE7-6F59-409B-B56B-5B7A8409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1CE53-BCA3-472A-8956-B84B0D33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325E7-B3D5-4A4E-B601-A0E0242C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0FCDF-CD4D-478B-8EE4-E3EF2976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F86DC-1B79-4B9F-A318-AC1C2B72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B17-5734-4216-A1C5-E5D0010F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B7ED9-7196-4385-8FF8-24993BCB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F71EB-8741-49DA-8A6F-6B2B21B0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7F05B-77B0-4369-B49A-0993F851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1AD4D-27FB-4D05-A61C-B20F0952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87733-500C-4E48-9EAC-0E614417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C24F8-0A51-4025-A6C9-0A2E5425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253AD-7988-47E7-8F83-17E831DC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C97D0-0F74-4129-A357-FE32FD68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CBABE-2B92-4DFD-B128-3C415952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85A74-F699-4B01-953D-97F64340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FC86-3FEB-4D8F-92E4-2092703B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4FE04-9557-4CDA-A160-9C9037F0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42FC4-8CDD-46C4-8D98-F4E718C3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035B9-5556-4ABD-8D1C-6771E37A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F944A-19C9-470F-B219-4CD4050F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E73B8-9EAB-4FA8-BF88-58A1EBA0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D5E07-E4CE-477B-A198-8EC03441A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8CD92-6DEB-406B-95CF-2F548B59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13128-DB0D-4755-95A3-F6F3C0DE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21A62-088D-46EC-A749-72A30E78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A7F49-D456-4248-9F2F-E1C3D437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77E5-B295-42C3-8E85-1D93AC6E45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A1CF-CC2E-47C8-A198-CC253E6C3CE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1834-9842-4C8B-9012-3629754827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3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34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6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8" name="Овал 1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39" name="Овал 1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1" name="Овал 2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740C-5AE5-44DB-82A6-F24673313C4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5" name="Овал 3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86" name="Овал 3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8" name="Овал 5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1673-6B69-4CC8-81BB-CBC33C1FDA3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3FEB-01F3-4FAA-B521-2E3261B8642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Прямоугольник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3F85-3083-4210-9BB5-B9E2D1C90BC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432B-698E-4D77-A4CA-C7643CD2504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Прямоугольник 1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56" name="Прямоугольник 1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8" name="Блок-схема: процесс 2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Блок-схема: процесс 3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5AE4-C769-4922-AC0B-A83939FCDB0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Picture 13" descr="bc2030-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14"/>
          <p:cNvSpPr/>
          <p:nvPr/>
        </p:nvSpPr>
        <p:spPr>
          <a:xfrm>
            <a:off x="1660680" y="1484280"/>
            <a:ext cx="62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Text Box 15"/>
          <p:cNvSpPr/>
          <p:nvPr/>
        </p:nvSpPr>
        <p:spPr>
          <a:xfrm>
            <a:off x="457200" y="914400"/>
            <a:ext cx="7315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нергоэффективный дом. Биоисточник энерг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3c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6cc"/>
                </a:solidFill>
                <a:latin typeface="Corbel"/>
              </a:rPr>
              <a:t>Спасибо за внимание</a:t>
            </a:r>
            <a:endParaRPr b="0" lang="en-US" sz="80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Цели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омочь людям сэкономить энергию через новый биоисточник.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762120" y="274320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Задачи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       Разработать прибор для получения дешевой дополнительной энергии с минимальными затратами. Способствовать очищению экологии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4" descr="b10396710ca6c61a9f440f5e23dd346f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Без чего не может существовать человечество? Что произойдет со всеми нами, когда через 5 млрд. лет не станет Солнца? Гибель всех живых существ – это еще минимум. Слово «свет» мы олицетворяем со словом «жизнь». И, естественно, люди всех времен и народов ищут пути и возможности получения новых источников световой энергии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4" descr="1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А ведь это здорово, что благодаря лишь взаимодействию между органическими веществами, морской водой с участием бактерий в придонном слое морей и океанов образуется так называемое естественное электричество. В новых источниках энергии могут быть использованы явления разложения окисления органических веществ, приводящие к выработке электроэнергии. Известно, что в придонном слое океана образуется электричество, там как бы имеется гигантский топливный элемент. Состав морской воды довольно сложный и включает в себя около 70 химических элементов, которые непрерывно взаимодействуют друг с другом. В результате этого происходят многочисленные реакции окисления, и при взаимодействии с кислородом выделяется энергия, которою можно использовать для получения электрического тока. Происходит превращение химической энергии в электрическую. 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       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Таблица расчетов по          биоисточнику энергии 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(*КОЕ – количество органических единиц)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533520" y="1596960"/>
          <a:ext cx="7619760" cy="4880160"/>
        </p:xfrm>
        <a:graphic>
          <a:graphicData uri="http://schemas.openxmlformats.org/drawingml/2006/table">
            <a:tbl>
              <a:tblPr/>
              <a:tblGrid>
                <a:gridCol w="1523880"/>
                <a:gridCol w="2746440"/>
                <a:gridCol w="1674720"/>
                <a:gridCol w="1674720"/>
              </a:tblGrid>
              <a:tr h="658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 в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траченные ресур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аемое напряж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ход на потребите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м</a:t>
                      </a:r>
                      <a:r>
                        <a:rPr b="0" lang="ru-RU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кг водорослей, 3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Е термолерантных колиформные бактерии, 1,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КОЕ общих колиформные бактерии, объем кислорода – 0,5 м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2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м</a:t>
                      </a:r>
                      <a:r>
                        <a:rPr b="0" lang="ru-RU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кг водорослей, 6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Е термолерантных колиформные бактерии, 3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КОЕ общих колиформные бактерии, объем кислорода – 1 м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м</a:t>
                      </a:r>
                      <a:r>
                        <a:rPr b="0" lang="ru-RU" sz="16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кг водорослей, 9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Е термолерантных колиформные бактерии, 4,5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КОЕ общих колиформные бактерии, объем кислорода – 1,5 м</a:t>
                      </a:r>
                      <a:r>
                        <a:rPr b="0" lang="ru-RU" sz="1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8 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Corbel"/>
              </a:rPr>
              <a:t>Заключе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Таким образом, от прибора можно питать минимум подсветку квартиры с применением твердотельных источников света. Особенно это удобно, если есть маленькие дети и необходим ночной уход. Бесспорное преимущество прибора в том, что затраты самые минимальны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ибор экологически чист и плюс ко всему еще очищает окружающую среду. И в заключении, я хочу сказать словами Р. Фейнмана «Нам необыкновенно повезло, что мы живем в век, когда еще можно делать открытия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"/>
          <p:cNvSpPr/>
          <p:nvPr/>
        </p:nvSpPr>
        <p:spPr>
          <a:xfrm>
            <a:off x="1828800" y="600120"/>
            <a:ext cx="579132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ЛИТЕРАТУ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) Дмитриева В.Ф. Физика.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[Текст]: учеб. пособие для школьников/ В.Ф. Дмитриева.- 3-е изд., стер. – М.: Aкадемия, 2007. – 580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) Павленко   Ю.Г.    Физика.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[Текст]: учеб. пособие для школьников/ Ю.Г. Павленко. -  4-е изд.,    стереотип. – М.: Академия, 2005. – 566,[1]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) Перельман  Я.И.   Занимательная   физика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[Текст]: занимательная литература для школьников/ Я.И. Перельман. -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М.: Дрофа, 1994.-360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)  Алексеева М.Н.,  Физика – юным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[Текст]: занимательная литература для школьников/М.Н.Алексеева. -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М.: Просвещение, 1980.-400 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5)   Цифровые образовательные ресурсы. 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                                                                                            </a:t>
            </a:r>
            <a:r>
              <a:rPr b="0" lang="ru-RU" sz="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7086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Работу выполнила: </a:t>
            </a: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20" name="Rectangle 3" descr=""/>
          <p:cNvPicPr/>
          <p:nvPr/>
        </p:nvPicPr>
        <p:blipFill>
          <a:blip r:embed="rId1"/>
          <a:stretch/>
        </p:blipFill>
        <p:spPr>
          <a:xfrm>
            <a:off x="-1371600" y="1603440"/>
            <a:ext cx="10223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 Маликова</cp:lastModifiedBy>
  <dcterms:modified xsi:type="dcterms:W3CDTF">2024-05-17T07:59:0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